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3237-961B-41AF-9815-8E7E5D0CE04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08B5-FACE-4A8B-B92D-C4D1AB81670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7F2-48A7-418C-BB23-1D0FB662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BFA-9964-41B6-853A-34929B3D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338-53B9-453B-8C13-AF3B7A36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78F-1FF3-402C-92F0-7ECFD0E2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1876-78EB-4800-9A2D-0C274247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F2E2-6B00-471E-9E61-B09DF1F7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27E3-B05D-438A-8BC5-0C7D3540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E422-DE5B-48B7-805E-7A6BE30E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8106-E69D-4484-902A-A9205BE5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9336-BED8-4F71-A3B8-2072549F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91B7-EFA0-4E3D-B041-145138B9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112-668E-4E21-BC2E-C8203046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5C00-3309-43BE-AFDF-96D439F6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EDF6-2D16-4833-85F2-E9810A2C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3993-D04C-4BE4-9A42-54297149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63E4-AF23-486C-94A2-608C74D6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0F54-96FF-4B25-A527-00CD7C47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5B0-1D25-43C7-AEAF-EE6E194F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60F-8797-473C-B006-A0CA4B43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A50-C114-485D-B017-718341A3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2EC-DAC5-4BE0-BC0E-E3CCB5E1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573-B198-4A50-9C8A-43119C23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246-BAD4-410C-9016-A383FA28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42E-8DC0-47DD-8729-2FB07380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05C0-7323-4BD0-92CC-BC747B2D552C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2" descr="Logo NSRF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88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231C-8E32-42A3-8FA5-61AA8764DE49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0" y="1052640"/>
            <a:ext cx="9144000" cy="7272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6524640"/>
            <a:ext cx="9144000" cy="7308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0" descr="Logo NSRF"/>
          <p:cNvPicPr/>
          <p:nvPr/>
        </p:nvPicPr>
        <p:blipFill>
          <a:blip r:embed="rId1"/>
          <a:stretch/>
        </p:blipFill>
        <p:spPr>
          <a:xfrm>
            <a:off x="0" y="1089000"/>
            <a:ext cx="4932360" cy="5399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2"/>
          <p:cNvSpPr/>
          <p:nvPr/>
        </p:nvSpPr>
        <p:spPr>
          <a:xfrm>
            <a:off x="4932360" y="2205000"/>
            <a:ext cx="42116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5580000" y="47530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4932360" y="1644480"/>
            <a:ext cx="42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пция относно цели, приоритети и мер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бластта на административния капацит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техническата помощ, които да бъдат финансирани през програмен перио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4-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5651640" y="56624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Ирена Първан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</a:rPr>
              <a:t>Директор на дирекция ОПТ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Функционираща система за управление на средствата от ЕС в съответствие с принципите на доброто управ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1.Мерки, свързани с осигуряване на ефективно, ефикасно и регулярно изпълнение на политиките свързани с усвояване на средствата от СКФ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държане, развитие, оптимизиране и гарантиране на устойчивост на системата за управление, координация, мониторинг, контрол и одит на средствата от 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крепа за изпълнение на стратегически дейности на системно ниво, свързани с използване на средствата от СКФ на Е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игуряване на информация и публичност за средствата от ОС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. Мерки, свързани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витие 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усъвършенстване на информационните системи за управление на средствата от ЕС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ерки за поддържане, развитие и допълнително усъвършенстване на ИСУН 202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игуряване на условия за функциониране на ИСУН 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І : Гарантиране на ефективност и устойчивост на системата за управление на средствата от Е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Транснационално сътрудничество: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сърчаване на взаимното обучение, с цел повишаване ефективността на политиките, подкрепяни от ЕСФ, като включва партньори от най-малко две държави-чле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Мерки за обмяна на опит и експерти, координиране на съвместни действия в отделни области на взаимодействие, обмен на информация и добри практики за прилагане на принципите на добро управлен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МНОГОФОНДОВО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ФИНАНСИРАН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ходимост от обвързаност и интегрираност на мерките с цел , постигане на синергия и цялостен резултат от прилагането 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обходимост от една обща политика и стратегия, съчетаваща в себе си мерки свързани с повишаване на административния капацитет на публичните институции и съдебната система, както и гарантиране на ефективността и устойчивостта на системата за управление на средствата от 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Благодаря за вниманието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165720"/>
            <a:ext cx="22334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„Европа 2020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цифрова Европа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онкретни препоръки по страни (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Елементи за Обща стратегическа рамка за периода 2014-2020 (работен документ на Европейската коми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зиция на службите на Европейската комисия за подготовката на Споразумението за партньорство и програмите в България за периода 2014 – 2020 (проек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на Европейския парламент и на Съвета за определяне на общоприложими разпоредби за ЕФРР, ЕСФ, КФ, ЕЗФРСР и ЕФМДР, обхванати от Общата стратегическа рамка, и за определяне на общи разпоредби за ЕФРПроект на регламент за Европейския социален фонд (ЕС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за Европейския социален фонд (ЕС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на регламент за Европейския фонд за регионално развитие (ЕФР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Доклад на Европейската комисия до Европейския парламент и Съвета относно напредъка на България по Механизма за сътрудничество и проверка (18.07.2012 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националн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за развитие „България 2020“ (Н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за реформи Европа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онвергентна програма на Р България 2012-2015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за развитие на държавната администрация до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овационна стратегия за интелигентна специ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бща стратегия за електронно управление 2011-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ционална програма „Цифрова България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Arial"/>
              </a:rPr>
              <a:t>Най-важните стратегически документи на европейско и национално нив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лан за намаляване на административната регулаторна тежест за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Актуализирана стратегия за децентрализация 2006-20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за продължаване на реформата на съдебната система в условията на пълноправно членство в Европейския съюз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ждинна оценка на НСРР 2007 –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ждинна оценка на ОП „Административен капацитет“ 2007 -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ffff"/>
                </a:solidFill>
                <a:latin typeface="Arial"/>
              </a:rPr>
              <a:t>Обща стратегическа це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492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вишаване ефективността и ефикасността на публичната администрация и съдебната система за провеждане на политики и предоставяне на услуги на гражданите и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: Модернизиране на управлението за предоставяне на висококачествени публични услуги за гражданите и бизнеса. Повишаване ефективността на администрацията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Повишаване на институционалния капацитет на публичната администрация за провеждане на политики и предоставяне на качествени и интегриран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1. Мерки, свързани с провеждането на политики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обряване на процеса по разработване и провеждане на политики и интелигентно регулиране за намаляване на административната теже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на организационното развитие за ефективни административни структу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усъвършенстването на политиките за развитие на човешките ресурси и въвеждане на практики и стандарти за тяхното упр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сърчаване участието на гражданското общество при разработването и прилагането на поли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игуряване на Председателството на Р България през 2018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: Модернизиране на управлението за предоставяне на висококачествени публични услуги за гражданите и бизнеса. Повишаване ефективността на администрация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2. Мерки, свързани с предоставянето на интегрирани административни услуги, включително електронно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витие на съществуващата и изграждане на нова информационна инфраструкту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веждане на нови и подобряване на съществуващите услуги, включително тяхното интегрира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вишаване на информираността на гражданите за дейността и отговорностите на държавните институции и предоставяне на публичен достъп до съответните бази дан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632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Цел ІІ : Осигуряване на качествена и независима съдебна систем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истерски съв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: Продължаване на реформата на съдебната система и повишаване на нейната ефективност и ефикас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. Институционални ме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крепване на капацитета на правосъдните и правоприлагащите орг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вишаване на квалификацията на магистратите, съдебните служители и разследващите орг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2.Мерки, свързани електронно правосъд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недряване на информационни системи, ориентирани към обслужването (електронно правосъд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ъздаван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 стандарти за обучение в областта на информационните технологии, специализирани за магистрати и съдебни служ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5:28:34Z</dcterms:created>
  <dc:creator>Milena Pehlivanova</dc:creator>
  <dc:description/>
  <dc:language>en-US</dc:language>
  <cp:lastModifiedBy>Ирена Първанова</cp:lastModifiedBy>
  <dcterms:modified xsi:type="dcterms:W3CDTF">2012-10-16T07:09:36Z</dcterms:modified>
  <cp:revision>245</cp:revision>
  <dc:subject/>
  <dc:title>НАЦИОНАЛНА СТРАТЕГИЧЕСКА РЕФЕРЕНТНА РАМКА</dc:title>
</cp:coreProperties>
</file>